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25C-D060-4A6A-A63D-93A96C8B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6F1-1E2D-403F-93FE-5E9BA508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06C-F2B4-4E4A-BEC2-02AF28D6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B2E-5138-40BE-BCE0-8C76A71E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62A-ACF6-440D-AC7B-507723BB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D59-0D7F-492F-A0CA-3D957051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CB59-02C6-4C5A-8BC5-C124900E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F68-FC2D-40CA-BAD2-C74D5FBF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257-B3DC-4C45-A5DC-7525329A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6CA-9F9C-4A63-82D0-68B4DFBE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AD0-6A14-48C6-8C0C-1F9EABCE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7BF-51DA-4863-9901-66D01416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14C3-3A01-4F53-B50F-8E539FCEB15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alibri"/>
              </a:rPr>
              <a:t>Нарада при заступнику директора з навчально – виховної робо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000160"/>
            <a:ext cx="730404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uk-UA" sz="3600" spc="-1" strike="noStrike">
                <a:solidFill>
                  <a:srgbClr val="0070c0"/>
                </a:solidFill>
                <a:latin typeface="Calibri"/>
              </a:rPr>
              <a:t>Організація трудового виховання дошкільників за Базовою програмою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uk-UA" sz="3600" spc="-1" strike="noStrike">
                <a:solidFill>
                  <a:srgbClr val="0070c0"/>
                </a:solidFill>
                <a:latin typeface="Calibri"/>
              </a:rPr>
              <a:t>Я у Світі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Оздоєва О.М.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заступник директора 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навчально – виховної робо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Подвірського НВ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>
            <a:off x="539640" y="333360"/>
            <a:ext cx="8136000" cy="18003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кінці молодшого дошкільного віку вихователь починає залуч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хованців до виконання деяких обов'язків чергових у їдальн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чинаючи з середнього дошкільного віку, діти чергують системати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їдальні, на заняттях, у куточку живої природи тощо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684360" y="2205000"/>
            <a:ext cx="8064360" cy="2808360"/>
          </a:xfrm>
          <a:prstGeom prst="horizontalScroll">
            <a:avLst>
              <a:gd name="adj" fmla="val 120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 дорослішанням дошкільників поступово ускладнюються їх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учення за змістом роботи, формами об'єднання дітей, вимо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самостійності й самоорганізованості.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Залежно від мети, я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ереслідує педагог, для чергувань об'єднують дітей з однаков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івнем трудових умінь, працелюбства, почуття відповіда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(для вдосконалення навичок взаємодії у колективній роботі) або 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ізним, але не дуже контрастним рівнем трудових умінь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амостійності (з метою вирівнювання розвитк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0" y="4869000"/>
            <a:ext cx="8675640" cy="1989000"/>
          </a:xfrm>
          <a:custGeom>
            <a:avLst/>
            <a:gdLst>
              <a:gd name="textAreaLeft" fmla="*/ 1980360 w 8675640"/>
              <a:gd name="textAreaRight" fmla="*/ 6695280 w 8675640"/>
              <a:gd name="textAreaTop" fmla="*/ 453960 h 1989000"/>
              <a:gd name="textAreaBottom" fmla="*/ 1535040 h 19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ВАГА!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безпечення психологічної суміс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ітей під час колективних чергувань педагог має добре знати їх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ндивідуальні особливості, з урахуванням яких розподіл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і доручення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Спільна трудова діяльність дітей (форма організації трудової діяльності дітей  у старшому дошкільному віці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5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042920" y="1125360"/>
            <a:ext cx="684216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олекти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об'єднує  всіх дітей групи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6372360" y="4797360"/>
            <a:ext cx="2520720" cy="1511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ключення ді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ького рі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івробітництва у груп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яких належ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йактивніші діти висо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івня розвитку взаємин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68360" y="1989000"/>
            <a:ext cx="8207280" cy="79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ластивості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ільна мета, відповідальність за результ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поділ праці між учасниками, залежність їх один від одного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2"/>
          <p:cNvSpPr/>
          <p:nvPr/>
        </p:nvSpPr>
        <p:spPr>
          <a:xfrm>
            <a:off x="395280" y="2924280"/>
            <a:ext cx="8353440" cy="79200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Ефективн</a:t>
            </a: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ість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лежить від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яв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т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свіду співробітниц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ежного оволодіння навичками конкретних видів прац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"/>
          <p:cNvSpPr/>
          <p:nvPr/>
        </p:nvSpPr>
        <p:spPr>
          <a:xfrm>
            <a:off x="428760" y="3929040"/>
            <a:ext cx="8280360" cy="576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Знання індивідуальних особливостей дітей дає змо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б'єднувати їх у групи різних рівнів співробітництва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395280" y="4724280"/>
            <a:ext cx="2232000" cy="1584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395280" y="4724280"/>
            <a:ext cx="2736720" cy="1584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'єднан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івробітництва 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літками низь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івня, які симпатизую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одн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6"/>
          <p:cNvSpPr/>
          <p:nvPr/>
        </p:nvSpPr>
        <p:spPr>
          <a:xfrm>
            <a:off x="3419640" y="4724280"/>
            <a:ext cx="2520720" cy="165600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'єднання ді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сокого рі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івробітництва 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ітьми низь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івня, які ї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патизують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Форми організації спільної трудової діяльност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53294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4"/>
          <p:cNvSpPr/>
          <p:nvPr/>
        </p:nvSpPr>
        <p:spPr>
          <a:xfrm>
            <a:off x="500040" y="1285920"/>
            <a:ext cx="1943280" cy="1439640"/>
          </a:xfrm>
          <a:prstGeom prst="rightArrow">
            <a:avLst>
              <a:gd name="adj1" fmla="val 50000"/>
              <a:gd name="adj2" fmla="val 3374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ця пору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68360" y="2997360"/>
            <a:ext cx="2087640" cy="1511280"/>
          </a:xfrm>
          <a:prstGeom prst="rightArrow">
            <a:avLst>
              <a:gd name="adj1" fmla="val 50000"/>
              <a:gd name="adj2" fmla="val 3453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гальна прац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468360" y="4653000"/>
            <a:ext cx="1942920" cy="1512720"/>
          </a:xfrm>
          <a:prstGeom prst="rightArrow">
            <a:avLst>
              <a:gd name="adj1" fmla="val 50000"/>
              <a:gd name="adj2" fmla="val 321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пільна прац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2484360" y="1341360"/>
            <a:ext cx="6264360" cy="136692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іти незалежно один від одного, одночасно виконують індивідуаль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вдання.  процесі роботи поруч виникає безпосереднє спілкуванн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е часто спонукає дітей до надання допомоги одне одном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ворює сприятливі умови для виховання доброзичливих стосункі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й спосіб організації трудової діяльності є проміжним етап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колективної праці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2627280" y="2997360"/>
            <a:ext cx="6048360" cy="13683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изу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єть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пільною метою і результат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довий процес розгортається як індивідуальний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ущість кожного окремого результату і зв'язок й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 іншими виявляється тільки після закінчення всь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у діяльності.</a:t>
            </a:r>
            <a:br>
              <a:rPr sz="1600"/>
            </a:b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2411280" y="4508640"/>
            <a:ext cx="6264360" cy="165708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бачає досягнення спільного результату шлях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онання послідовних трудових дій над певним об'єктом, я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ить від одного учасника трудового процесу до інш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і трудові дії при цьому мають певну завершені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ористовують у старшому дошкільному віці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и та виховне значення праці діт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125000"/>
            <a:ext cx="8229600" cy="50007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4"/>
          <p:cNvSpPr/>
          <p:nvPr/>
        </p:nvSpPr>
        <p:spPr>
          <a:xfrm>
            <a:off x="500040" y="1000080"/>
            <a:ext cx="7993080" cy="64764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обслугов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468360" y="2060640"/>
            <a:ext cx="4103640" cy="1257120"/>
          </a:xfrm>
          <a:prstGeom prst="wedgeRectCallout">
            <a:avLst>
              <a:gd name="adj1" fmla="val -25513"/>
              <a:gd name="adj2" fmla="val 753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ховується спрямованость на задоволення повсякденних особистих потреб дити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4932360" y="1989000"/>
            <a:ext cx="3743280" cy="1224000"/>
          </a:xfrm>
          <a:prstGeom prst="wedgeRectCallout">
            <a:avLst>
              <a:gd name="adj1" fmla="val -19421"/>
              <a:gd name="adj2" fmla="val 7970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тина привчається до порядку й організованої поведінки, оволодіває всіма компонентами трудової діяльност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684360" y="3933720"/>
            <a:ext cx="3671640" cy="1473480"/>
          </a:xfrm>
          <a:prstGeom prst="wedgeRectCallout">
            <a:avLst>
              <a:gd name="adj1" fmla="val -25787"/>
              <a:gd name="adj2" fmla="val 778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ово формується вміння бачити результат праці, встановлювати зв´язок між метою, трудовими діями і кінцевим результа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4859280" y="3933720"/>
            <a:ext cx="3672000" cy="1511280"/>
          </a:xfrm>
          <a:prstGeom prst="wedgeRectCallout">
            <a:avLst>
              <a:gd name="adj1" fmla="val -20083"/>
              <a:gd name="adj2" fmla="val 7793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є самостійною, починає усвідомлювати, що праця є першою умовою виховання вільної і незалежної особист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Господарсько-побутова прац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999720"/>
            <a:ext cx="8663040" cy="5668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395280" y="1052640"/>
            <a:ext cx="8353440" cy="93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99694"/>
                </a:solidFill>
                <a:latin typeface="Arial"/>
              </a:rPr>
              <a:t>Мет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ідтримання чистоти і поряд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міщенні, на інших територіях життєдіяльності дити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мога дорослим в організації режимних процесів тощ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95280" y="2276640"/>
            <a:ext cx="8424720" cy="1008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68360" y="2205000"/>
            <a:ext cx="842472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 ранньому віц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хователь привчає дітей виконувати прості трудові дії з близь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часі результатом (допомагати помічникові вихователя накривати на стіл; виховате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підготовці до заняття, підтримувати порядок на столі під час заняття, піс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ього — прибирати матеріали, складати на місце іграшки)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24000" y="3716280"/>
            <a:ext cx="8496000" cy="115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 </a:t>
            </a: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молодшему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дошкільному віц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хователь продовжує формувати у ді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інтерес і бажання виконувати завдання дорослих якісно, старанно, охоч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іст  праці ускладнюється; вихователь має допомогти дитині з´ясувати м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боти, послідовність трудових ді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250920" y="5157720"/>
            <a:ext cx="8640720" cy="1440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 старшому дошкільному віц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іти починають розуміти працю як потрібну 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йозну справу, а інтерес до трудового процесу поєднувати з інтересом 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його результатів. Значно складнішими стають для них трудові завдання. Праця 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ьому віці все більше відокремлюється від гри, а епізодичні трудов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ручення набувають для них значущості постійних обов´язкі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551880"/>
            <a:ext cx="914400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Arial"/>
              </a:rPr>
              <a:t>Організовуючи господарсько-побутову працю, вихов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33"/>
                </a:solidFill>
                <a:latin typeface="Arial"/>
              </a:rPr>
              <a:t>використовує різноманітні методичні прийо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 виконання кожної елементарної дії та послідовності ді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проводжуваний детальними поясненн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посередню допомогу у виконанні трудових ді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истий прикла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ійне нагадування про послідовність ді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користання дидактичних ігор та прийомів, створення ігрових ситуаці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охочення з урахуванням індивідуальних особливостей 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ливостей ді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інку результатів виконаної роботи, аналіз конкретних суспі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ущих учинків тощо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жди п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таємо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!!!   У старших дошкільників поступово згасає інтерес до того виду праці, який стає звичним, повсякденним. Тому для відновл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інтересу до неї слід збагачувати її елементами новизни(конкурс “Хто краще накриє стіл до обіду”,колективні обговорення творчого виконання обов´язків черговими у групі та ін.). 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alibri"/>
              </a:rPr>
              <a:t>Праця в природі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616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68360" y="1052640"/>
            <a:ext cx="813600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иховне завдання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роблення у дітей інтересу, дбайливого ставлення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ї природи, формування вмінь і навичок з догляду за рослинами 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аринами, вміння правильно користуватися знаряддями праці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68360" y="2637000"/>
            <a:ext cx="8207280" cy="151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оступний дітям дошкільного віку вид продуктивної трудової діяльнос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інцева мета, її результати конкретні та зрозумілі, однак їх неможл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швидко досягти. Віддаленість результату вимагає від дити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тривалих фізичних і розумових зусиль, повсякденної копі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ї роботи, терпін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57120" y="4572000"/>
            <a:ext cx="8280360" cy="1633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Більшість дітей охоче працює з живими об´єктами, радо доглядає за ни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пізнаючи світ живої природи, розкриваючи свої нові можливост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виховуючи в собі дбайливе ставлення до всього жив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Однак у них ще мало досвіду, умінь, тому дорослі мають разом із ді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виробити чіткі правила їх поведінки і діяльності у природі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Ручна (художня) прац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928800"/>
            <a:ext cx="8229600" cy="564336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500040" y="1000080"/>
            <a:ext cx="8072640" cy="1857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Функціональна мета для діте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готовлення виробів з паперу, картону, тканини: іграшок-саморобок, вітальних листівок, ялинкових прикрас, персонажів і декорацій лялькового театру, букетів із засушених рослин, килимків для ляльок, серветок тощ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готовлення подарунків рідним і друзям справляє великий вплив на моральну свідомість дитини (привчає виявляти увагу до оточуючих, працювати заради того, щоб зробити їм приємн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"/>
          <p:cNvSpPr/>
          <p:nvPr/>
        </p:nvSpPr>
        <p:spPr>
          <a:xfrm>
            <a:off x="571680" y="2857680"/>
            <a:ext cx="2357280" cy="37144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Розвиває уяву, спостереж-ливість, художн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ислення, естетичне чуття, конструктивні здібності, моторні навички діт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7"/>
          <p:cNvSpPr/>
          <p:nvPr/>
        </p:nvSpPr>
        <p:spPr>
          <a:xfrm>
            <a:off x="3000240" y="2928960"/>
            <a:ext cx="3357720" cy="3571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Результати здебільшого викликають позитивні емоції, захоплення дорослих, що посилює ефект самопізнання, самоусвідомлення, самоствердження дитини, збуджують у ній здорове честолюбст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8"/>
          <p:cNvSpPr/>
          <p:nvPr/>
        </p:nvSpPr>
        <p:spPr>
          <a:xfrm>
            <a:off x="6429240" y="2928960"/>
            <a:ext cx="2214720" cy="3571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Виховує у дитини усвідомлення своїх здібностей, таланту, виношування мрії на все житт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Виснов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504d"/>
                </a:solidFill>
                <a:latin typeface="Calibri"/>
              </a:rPr>
              <a:t>Праця — один із провідних чинників усебічного розвитку ді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орисна для здоров'я дитини, якщо вона посильна і правильно організова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ухи дитини, яка володіє трудовими навичками, більш точні та впевнені, вона ліпше орієн­тується у просторі, їй зрозуміліший плин час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прияє розумовому розвитк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иховує допитливість: діти дізнаються про властивості матеріалів, з якими працюють, про призначення засобів праці, інструментів, якими вони користують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озвиває всі пізнавальні процеси — активне  сприймання, уяву, увагу, пам'я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прияє роботі мислення, адже дитині потрібно порівнювати, зіставляти предмети, з якими вона працює, встановлювати найпростіші закономірності явищ тощ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ає  неоціненне значення праця для морального виховання дитини, адже під час роботи виховуються такі якості особистості, як здатність до подолання перешкод, спостережливість, зосередженість, старанність, дисциплінованість, самостійність, ініціативні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5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8008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339933"/>
                </a:solidFill>
                <a:latin typeface="Calibri"/>
              </a:rPr>
              <a:t>Практична частина</a:t>
            </a:r>
            <a:br>
              <a:rPr sz="2500"/>
            </a:br>
            <a:r>
              <a:rPr b="0" lang="uk-UA" sz="2500" spc="-1" strike="noStrike">
                <a:solidFill>
                  <a:srgbClr val="339933"/>
                </a:solidFill>
                <a:latin typeface="Calibri"/>
              </a:rPr>
              <a:t>Завдання. Обери правильну відповід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1. Трудові доручення спрямовані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на виконанн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на результ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2. Чергування стимулюю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иконанні дитиною трудових обов'язків стосовно своїх одногрупник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розвиток дити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3.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Спільна трудова діяльність дітей можли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у любому віц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у старшому дошкільному віц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4.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Виховне  значення  самообслуговування полягає 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спрямованості на задоволення повсякденних особистих потреб дитин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виконанні трудових доручен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5.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Головною метою господарсько-побутової праці є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результат прац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ідтримання чистоти і порядку в приміщенні, на інших територіях життєдіяльності дити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1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4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2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Завдання трудового виховання</a:t>
            </a:r>
            <a:r>
              <a:rPr b="0" lang="ru-RU" sz="40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ді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Формування мотивації (потреб, інтересу, почуття обов´язку і відповідальності), позитивно-емоційного ціннісного ставлення до праці як до форми буття і способу самореалізації людини. </a:t>
            </a:r>
            <a:br>
              <a:rPr sz="2400"/>
            </a:b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Формування системи знань, необхідних для трудової діяльності, вибору професії, соціального, професійного і життєвого самовизначення. </a:t>
            </a:r>
            <a:br>
              <a:rPr sz="2400"/>
            </a:b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Calibri"/>
              </a:rPr>
              <a:t>Формування досвіду суспільно корисної виробничої діяльності, вміння використовувати теоретичні знання на практиці, здатності до творчості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2296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6.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Особливість праця в природі полягає в тому, щ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діти мають справу з об´єктами живої природ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іти виконують певні доруче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7.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Ручна (художня) праця допомагає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стимулює виконання дитиною трудових обов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’</a:t>
            </a: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язк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усвідомлювати свої здібності, тала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8.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Трудове виховання дітей дошкільного віку, будучи спрямованим на особистісний розвиток дитин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ов´язане з фізичним, моральним, розумовим виховання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ов´язане тільки з розумовим вихованн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9. Одним з основних завдань дошкільного закладу та родини є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залучення до прац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виховання у дітей самостійності, правильного ставлення до праці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10. Праця корисна для здоров'я дитини, якщ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вона посильна і правильно організован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дитина працює разом з доросл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4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Прямоугольник 4" descr=""/>
          <p:cNvPicPr/>
          <p:nvPr/>
        </p:nvPicPr>
        <p:blipFill>
          <a:blip r:embed="rId1"/>
          <a:stretch/>
        </p:blipFill>
        <p:spPr>
          <a:xfrm>
            <a:off x="1517760" y="1816200"/>
            <a:ext cx="6083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66"/>
                </a:solidFill>
                <a:latin typeface="Calibri"/>
              </a:rPr>
              <a:t>Забезпечує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alibri"/>
              </a:rPr>
              <a:t>1. Виховання інтересу до праці дорослих, бережливого ставлення до їх результатів, поваги до людини-трудівни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 Формування навичок трудової діяльності. Уже в дошкільному віці діти намагаються наслідувати працю доросли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3. Виховання особистості дитини у процесі її трудової діяльності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едагог повинен пам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’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ятати !!!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рішення ціх завдань відбувається у процесі загальноосвітньої підготовки, трудового навчання, різноманітної за змістом і формою трудової діяльності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ими формами організації праці дітей дошкільного ві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дові дорученн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гува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лективна прац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571680" y="285840"/>
            <a:ext cx="714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ористання різних форм організації трудової діяльності дітей збуджує у них «прагнення серйозної праці», без якої життя людини «не може бути ні гідним, ні щасливим.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(К. Ушинський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доступнішою і найпоширенішою формою організації дитячої праці є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рудові доруче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611280" y="2276640"/>
            <a:ext cx="3031920" cy="3600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тність ї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гає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ладанні на індиві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у певних обов'язкі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онання певних завда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ни мають чі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рямовані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4211640" y="2349360"/>
            <a:ext cx="4248000" cy="1150920"/>
          </a:xfrm>
          <a:prstGeom prst="wedgeRoundRectCallout">
            <a:avLst>
              <a:gd name="adj1" fmla="val -55472"/>
              <a:gd name="adj2" fmla="val 32166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дшим дошкільникам вихователь дає прості доручення, які є епізодичними, короткочасними (наприклад, покласти на місце іграшку, принести стілець та ін.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4140360" y="4365720"/>
            <a:ext cx="4824360" cy="1511280"/>
          </a:xfrm>
          <a:prstGeom prst="wedgeRoundRectCallout">
            <a:avLst>
              <a:gd name="adj1" fmla="val -55986"/>
              <a:gd name="adj2" fmla="val 2749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инаючи з середнього дошкільного віку дітям доручають складніші і триваліші справи, які можуть бути пов'язаними з проханням або звертанням до інших осіб, прибиранням і підтриманням порядку в ігровому куточку, доглядом за тваринами у куточку живої природи тощо.</a:t>
            </a:r>
            <a:br>
              <a:rPr sz="14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341964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356400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3492360" y="530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341964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V="1">
            <a:off x="3492360" y="3284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341964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3419640" y="4869000"/>
            <a:ext cx="50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250920" y="189000"/>
            <a:ext cx="4752720" cy="611964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конання дору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ховує у дошкільн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в'язков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дповідальні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чає їх до вия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ьов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усиль що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організ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іяльності за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ягнення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 для цього важли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об діти усвідомлю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цільн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ущ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их загальної спр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ретних доруч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4716360" y="333360"/>
            <a:ext cx="4176720" cy="590400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ам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’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ятай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учаючи дити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ійну спра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 ма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хову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дсу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іальн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унікати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ві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тини, рекомендую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зв'язку з ц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ціональні способи ї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кона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30240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фективним щодо цього може бути ознайомлення дитини з такими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правилами виконання доруче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-  отримавши доручення, подумай, чи правильно ти зрозумів, що потрібно робити;</a:t>
            </a:r>
            <a:br>
              <a:rPr sz="2400"/>
            </a:b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-  сплануй, як виконати цю роботу;</a:t>
            </a:r>
            <a:br>
              <a:rPr sz="2400"/>
            </a:b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- працюй не поспішаючи, щоб результат приніс задоволення і користь;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 проінформуй про завершення справи того, хто доручив її тобі;</a:t>
            </a:r>
            <a:br>
              <a:rPr sz="2400"/>
            </a:b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-  проаналізуй, чи не потрібно зробити ще щ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УВАГА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ільки зацікавлений у вихованні самодостатніх особистостей педагог заохочуватиме ініціативу дошкільнят у прийнятті і виконанні доручень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468360" y="406440"/>
            <a:ext cx="799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иконання групових доруч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ривчає дітей до узгодження своїх ді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9900"/>
                </a:solidFill>
                <a:latin typeface="Arial"/>
              </a:rPr>
              <a:t>збагачує їх досвідом співробітниц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прищеплює гуманістичні почутт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ff00"/>
                </a:solidFill>
                <a:latin typeface="Arial"/>
              </a:rPr>
              <a:t>виховує вміння бути уважними одне до одного, допомагати одне одном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Форма доручення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- чергув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8571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полягає у систематичному виконанні дитиною трудових обов'язків стосовно своїх одногрупників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Calibri"/>
              </a:rPr>
              <a:t>суттєво стимулюють розвиток дитини, адже вони вимагають немалих зусиль і напружень, що зумовлює її фізичне зміцнення, набуття знань про властивості та якості різних предметі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иробляє усвідомлення значущості своєї праці, навички роботи на конкретний результа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є  дієвим засобом виховання почуття відповідальності у дошкільників, формування самостійності, працелюбства, взаємодії у колективній роботі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9:56:32Z</dcterms:created>
  <dc:creator>1</dc:creator>
  <dc:description/>
  <dc:language>en-US</dc:language>
  <cp:lastModifiedBy>User</cp:lastModifiedBy>
  <dcterms:modified xsi:type="dcterms:W3CDTF">2006-01-01T08:26:25Z</dcterms:modified>
  <cp:revision>35</cp:revision>
  <dc:subject/>
  <dc:title>Нарада при заступнику директора з навчально – виховної роботи</dc:title>
</cp:coreProperties>
</file>